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209520"/>
            <a:ext cx="1524600" cy="1524600"/>
            <a:chOff x="380880" y="209520"/>
            <a:chExt cx="1524600" cy="1524600"/>
          </a:xfrm>
        </p:grpSpPr>
        <p:sp>
          <p:nvSpPr>
            <p:cNvPr id="1" name=""/>
            <p:cNvSpPr/>
            <p:nvPr/>
          </p:nvSpPr>
          <p:spPr>
            <a:xfrm>
              <a:off x="533520" y="361800"/>
              <a:ext cx="1219680" cy="1219680"/>
            </a:xfrm>
            <a:custGeom>
              <a:avLst/>
              <a:gdLst/>
              <a:ahLst/>
              <a:rect l="0" t="0" r="r" b="b"/>
              <a:pathLst>
                <a:path w="3388" h="3388">
                  <a:moveTo>
                    <a:pt x="1694" y="0"/>
                  </a:moveTo>
                  <a:lnTo>
                    <a:pt x="0" y="1694"/>
                  </a:lnTo>
                  <a:lnTo>
                    <a:pt x="1694" y="3388"/>
                  </a:lnTo>
                  <a:lnTo>
                    <a:pt x="3388" y="1694"/>
                  </a:lnTo>
                  <a:lnTo>
                    <a:pt x="169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282"/>
                </a:gs>
                <a:gs pos="100000">
                  <a:srgbClr val="4c4da7"/>
                </a:gs>
              </a:gsLst>
              <a:lin ang="2700000"/>
            </a:gradFill>
            <a:ln w="12600">
              <a:solidFill>
                <a:srgbClr val="000282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209520"/>
              <a:ext cx="1524600" cy="1524600"/>
              <a:chOff x="380880" y="209520"/>
              <a:chExt cx="1524600" cy="1524600"/>
            </a:xfrm>
          </p:grpSpPr>
          <p:sp>
            <p:nvSpPr>
              <p:cNvPr id="3" name=""/>
              <p:cNvSpPr/>
              <p:nvPr/>
            </p:nvSpPr>
            <p:spPr>
              <a:xfrm>
                <a:off x="1143000" y="209520"/>
                <a:ext cx="762480" cy="762480"/>
              </a:xfrm>
              <a:custGeom>
                <a:avLst/>
                <a:gdLst/>
                <a:ahLst/>
                <a:rect l="0" t="0" r="r" b="b"/>
                <a:pathLst>
                  <a:path w="2118" h="2118">
                    <a:moveTo>
                      <a:pt x="0" y="423"/>
                    </a:moveTo>
                    <a:lnTo>
                      <a:pt x="0" y="0"/>
                    </a:lnTo>
                    <a:lnTo>
                      <a:pt x="2118" y="2118"/>
                    </a:lnTo>
                    <a:lnTo>
                      <a:pt x="1695" y="2118"/>
                    </a:lnTo>
                    <a:lnTo>
                      <a:pt x="0" y="42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282"/>
                  </a:gs>
                  <a:gs pos="100000">
                    <a:srgbClr val="4c4da7"/>
                  </a:gs>
                </a:gsLst>
                <a:lin ang="2700000"/>
              </a:gradFill>
              <a:ln w="12600">
                <a:solidFill>
                  <a:srgbClr val="000282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209520"/>
                <a:ext cx="762480" cy="762480"/>
              </a:xfrm>
              <a:custGeom>
                <a:avLst/>
                <a:gdLst/>
                <a:ahLst/>
                <a:rect l="0" t="0" r="r" b="b"/>
                <a:pathLst>
                  <a:path w="2118" h="2118">
                    <a:moveTo>
                      <a:pt x="2118" y="0"/>
                    </a:moveTo>
                    <a:lnTo>
                      <a:pt x="2118" y="423"/>
                    </a:lnTo>
                    <a:lnTo>
                      <a:pt x="423" y="2118"/>
                    </a:lnTo>
                    <a:lnTo>
                      <a:pt x="0" y="2118"/>
                    </a:lnTo>
                    <a:lnTo>
                      <a:pt x="2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282"/>
                  </a:gs>
                  <a:gs pos="100000">
                    <a:srgbClr val="4c4da7"/>
                  </a:gs>
                </a:gsLst>
                <a:lin ang="2700000"/>
              </a:gradFill>
              <a:ln w="12600">
                <a:solidFill>
                  <a:srgbClr val="000282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143000" y="971640"/>
                <a:ext cx="762480" cy="762480"/>
              </a:xfrm>
              <a:custGeom>
                <a:avLst/>
                <a:gdLst/>
                <a:ahLst/>
                <a:rect l="0" t="0" r="r" b="b"/>
                <a:pathLst>
                  <a:path w="2118" h="2118">
                    <a:moveTo>
                      <a:pt x="1695" y="0"/>
                    </a:moveTo>
                    <a:lnTo>
                      <a:pt x="2118" y="0"/>
                    </a:lnTo>
                    <a:lnTo>
                      <a:pt x="0" y="2118"/>
                    </a:lnTo>
                    <a:lnTo>
                      <a:pt x="0" y="1695"/>
                    </a:lnTo>
                    <a:lnTo>
                      <a:pt x="169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282"/>
                  </a:gs>
                  <a:gs pos="100000">
                    <a:srgbClr val="4c4da7"/>
                  </a:gs>
                </a:gsLst>
                <a:lin ang="2700000"/>
              </a:gradFill>
              <a:ln w="12600">
                <a:solidFill>
                  <a:srgbClr val="000282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80880" y="971640"/>
                <a:ext cx="762480" cy="762480"/>
              </a:xfrm>
              <a:custGeom>
                <a:avLst/>
                <a:gdLst/>
                <a:ahLst/>
                <a:rect l="0" t="0" r="r" b="b"/>
                <a:pathLst>
                  <a:path w="2118" h="2118">
                    <a:moveTo>
                      <a:pt x="423" y="0"/>
                    </a:moveTo>
                    <a:lnTo>
                      <a:pt x="2118" y="1695"/>
                    </a:lnTo>
                    <a:lnTo>
                      <a:pt x="2118" y="2118"/>
                    </a:lnTo>
                    <a:lnTo>
                      <a:pt x="0" y="0"/>
                    </a:lnTo>
                    <a:lnTo>
                      <a:pt x="42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282"/>
                  </a:gs>
                  <a:gs pos="100000">
                    <a:srgbClr val="4c4da7"/>
                  </a:gs>
                </a:gsLst>
                <a:lin ang="2700000"/>
              </a:gradFill>
              <a:ln w="12600">
                <a:solidFill>
                  <a:srgbClr val="000282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2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762120" y="15228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5400" spc="-1" strike="noStrike">
                <a:solidFill>
                  <a:srgbClr val="fafd00"/>
                </a:solidFill>
                <a:latin typeface="Book Antiqua"/>
                <a:ea typeface="Book Antiqua"/>
              </a:rPr>
              <a:t>Journey to the Center of Oracle: The X$ Tables</a:t>
            </a:r>
            <a:br>
              <a:rPr sz="18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447920" y="2438280"/>
            <a:ext cx="6400800" cy="23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ternational Oracle Users 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eptember, 199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Paper Number 7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Joseph C. Trezz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505320" y="4724280"/>
            <a:ext cx="1676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6001"/>
              </a:lnSpc>
            </a:pPr>
            <a:r>
              <a:rPr b="1" i="1" lang="en-US" sz="6000" spc="-1" strike="noStrike">
                <a:solidFill>
                  <a:srgbClr val="fafd00"/>
                </a:solidFill>
                <a:latin typeface="Arial"/>
                <a:ea typeface="Arial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352680" y="5029200"/>
            <a:ext cx="236232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2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914400" y="723960"/>
            <a:ext cx="777240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Book Antiqua"/>
                <a:ea typeface="Book Antiqua"/>
              </a:rPr>
              <a:t>V$ Views and X$ Tables Creation/Ac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04920" y="1981080"/>
            <a:ext cx="7620120" cy="50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ecurity/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Grant Select on V$ 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YS only Select on X$ 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 Tables Cryptic Like Underlying D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74 V$ Views/ 126 X$ 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ccess to V$ 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create or replace view v_$datafile a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select * from v$datafil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drop public synonym v$datafil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create public synonym v$datafile for v_$datafil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772400" y="5867280"/>
            <a:ext cx="1295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2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914400" y="723960"/>
            <a:ext cx="777240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Book Antiqua"/>
                <a:ea typeface="Book Antiqua"/>
              </a:rPr>
              <a:t>V$ Views and X$ Tables Creation/Ac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04920" y="198108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ccess to V$ Views (cont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Access Granted by 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elect on V$ View: Select from X$ Table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Underlying Server Manager/SQLDBA Monitor O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Word of Ca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Oracle Statement on V$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History of V$ and X$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772400" y="5867280"/>
            <a:ext cx="1295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2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914400" y="647640"/>
            <a:ext cx="815328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Book Antiqua"/>
                <a:ea typeface="Book Antiqua"/>
              </a:rPr>
              <a:t>Server Manager/SQLDBA Mon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1905120"/>
            <a:ext cx="7620120" cy="46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ixteen (16) Monitor O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nderlying O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elect from V$ 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elects in kbcus.ora (rdbms/sqldb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Access to Options: Select on V$ 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onitor Option Listing in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reate Customized SQL Scri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cripts Created Alrea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772400" y="5867280"/>
            <a:ext cx="1295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2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14400" y="495360"/>
            <a:ext cx="815328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Book Antiqua"/>
                <a:ea typeface="Book Antiqua"/>
              </a:rPr>
              <a:t>Server Manager/SQLDBA Mon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6320" y="1600200"/>
            <a:ext cx="8686800" cy="50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ample Monitor SQL Scri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define 'Minimum_Session_ID' = '&amp;&amp;Minimum_Session_ID'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define 'Maximum_Session_ID' ='&amp;&amp;Maximum_Session_ID'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define 'Schema_Filter' = '&amp;&amp;Schema_Filter'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define 'Table_Filter' = '&amp;&amp;Table_Filter'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SELECT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SID,OWNER,OBJE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FROM  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ACC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WHERE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SID    &gt;= nvl('&amp;&amp;Minimum_Session_ID', 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AND  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SID    &lt;= nvl('&amp;&amp;Maximum_Session_ID',99999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AND  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OWNER  LIKE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UPPER('%' || '&amp;&amp;Schema_Filter' || '%'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AND  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OBJECT   LIKE UPPER('%' || '&amp;&amp;Table_Filter' || '%'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ORDER BY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SID,OWNE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772400" y="5867280"/>
            <a:ext cx="1295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2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914400" y="419040"/>
            <a:ext cx="81532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Book Antiqua"/>
                <a:ea typeface="Book Antiqua"/>
              </a:rPr>
              <a:t>V$ Views and Categor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14400" y="1600200"/>
            <a:ext cx="7620120" cy="55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nderstanding the V$ Views Content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Each V$ View Description in Oracle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ategorizing the V$ 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Backup and Reco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a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ursors/SQL Stat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Direct Loa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General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I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772400" y="5867280"/>
            <a:ext cx="1295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2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914400" y="419040"/>
            <a:ext cx="81532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Book Antiqua"/>
                <a:ea typeface="Book Antiqua"/>
              </a:rPr>
              <a:t>V$ Views and Categor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14400" y="1600200"/>
            <a:ext cx="76201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ategorizing the V$ Views (cont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Latches/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ulti-Threaded/Parallel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Overall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Parallel Qu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Redo Lo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Rollback Seg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es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772400" y="5867280"/>
            <a:ext cx="1295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2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914400" y="419040"/>
            <a:ext cx="81532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Book Antiqua"/>
                <a:ea typeface="Book Antiqua"/>
              </a:rPr>
              <a:t>V$ Views and Categor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52280" y="1447920"/>
            <a:ext cx="8686800" cy="56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ategory Descriptions in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able Reference in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 Poster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 Views only Accessible by S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sql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in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 Views Not Only Select from X$ 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mls_parameters (subset of v$nls_parameter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rollname (undo$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 Fields Dependent on time_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772400" y="5867280"/>
            <a:ext cx="1295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2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914400" y="419040"/>
            <a:ext cx="81532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Book Antiqua"/>
                <a:ea typeface="Book Antiqua"/>
              </a:rPr>
              <a:t>V$ Queries and Infor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8600" y="1905120"/>
            <a:ext cx="8610480" cy="51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valuable Information for DB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nother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ny Query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QL*P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ird Party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BA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Query V$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Query X$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772400" y="5867280"/>
            <a:ext cx="1295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2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419040"/>
            <a:ext cx="81532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Book Antiqua"/>
                <a:ea typeface="Book Antiqua"/>
              </a:rPr>
              <a:t>V$ Queries and Infor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28600" y="1752480"/>
            <a:ext cx="8839080" cy="525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cripts Available (Hardcopy or Electroni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1994 IOUG Procee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Get the Most out of Your Money: Utilize the V$ 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On Internet (tusc.co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At Booth: Bring 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Build Routines to Load into Own 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reate Own 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Execute Scripts to Insert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Date Stamp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Execute Reports Against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772400" y="5867280"/>
            <a:ext cx="1295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2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91440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Book Antiqua"/>
                <a:ea typeface="Book Antiqua"/>
              </a:rPr>
              <a:t>X$ Tables Closer Loo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05120"/>
            <a:ext cx="8305920" cy="51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 Views vs X$ 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Query V$ View: Review x$sqltext or v$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No Documentation on X$ 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sight from Oracle Cont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formation not Easy to Come 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126 X$ Tables (All preceded by X$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View V$ Query Through Explain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No Inde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 Tables Referen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772400" y="5867280"/>
            <a:ext cx="1295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2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762120" y="419040"/>
            <a:ext cx="83059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Book Antiqua"/>
                <a:ea typeface="Book Antiqua"/>
              </a:rPr>
              <a:t>Audience Knowledge &amp; Go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14400" y="16765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udience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Oracle Experience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DBA Experience ?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 Experience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 Experience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Presentation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772400" y="5867280"/>
            <a:ext cx="1295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2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1440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Book Antiqua"/>
                <a:ea typeface="Book Antiqua"/>
              </a:rPr>
              <a:t>X$ Tables Closer Loo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523880"/>
            <a:ext cx="8305920" cy="55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tored in S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No Describe Capability on X$ 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Only SYS can Sel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YS Cannot Grant Select on X$ 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ERROR at line 1: ORA-02030: can only select from fixed tables/vie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kes Sense: Not Stored in Data Diction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Only Access to 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SYS Create View on X$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SYS Create Public Synonym on 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SYS Grant Select on View Cre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772400" y="5867280"/>
            <a:ext cx="1295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2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91440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Book Antiqua"/>
                <a:ea typeface="Book Antiqua"/>
              </a:rPr>
              <a:t>X$ Tables Closer Loo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23880"/>
            <a:ext cx="8305920" cy="46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Example of Access by S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reate view a$ksull as select * from x$ksull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reate public synonym x$ksull on a$ksull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grant select on a$ksull to system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nother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everse Engineer into CASE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 Tables are Cryp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orting it All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772400" y="5867280"/>
            <a:ext cx="1295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2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91440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Book Antiqua"/>
                <a:ea typeface="Book Antiqua"/>
              </a:rPr>
              <a:t>X$ Tables Closer Loo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480" y="152388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Views Creation for All V$ 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escription of 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everal V$ Views are Select from One X$ 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everal V$ Views involve Joins of X$ 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ome V$ Views involve Union and De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53 X$ Tables not Referenced in a V$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No Indexes, Long Running Que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772400" y="5867280"/>
            <a:ext cx="1295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2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1440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Book Antiqua"/>
                <a:ea typeface="Book Antiqua"/>
              </a:rPr>
              <a:t>X$ Tables Closer Loo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52388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Paper in Proceedings 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Listing of X$ Tab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Listing of All V$ View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Listing of All Non-Referenced X$ Tab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ross Reference of V$ Views to X$ Tab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ross Reference of X$ Tables to V$ 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escribe can be Performed Once View, Synonym, and Access on X$ 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772400" y="5867280"/>
            <a:ext cx="1295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2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91440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Book Antiqua"/>
                <a:ea typeface="Book Antiqua"/>
              </a:rPr>
              <a:t>X$ Tables Closer Loo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09480" y="1523880"/>
            <a:ext cx="8305920" cy="53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Benefits of X$ Table Re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ustomize V$ Sel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ustomize Monitor O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Limit Rows Retrie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reate Own Scri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Provide More Insight into Underlying Oracle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Provide More Capability for DB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Access 53 Unreferenced X$ 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Access Columns Not Referen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772400" y="5867280"/>
            <a:ext cx="1295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2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8080" y="41904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Book Antiqua"/>
                <a:ea typeface="Book Antiqua"/>
              </a:rPr>
              <a:t>V$ Views Underlying Quer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23880"/>
            <a:ext cx="8001000" cy="54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ample Look at V$ 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Basic V$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View: v$compat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select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kcktyid, kcktyrls, kcktyds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from 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ckt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Join V$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View: v$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select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distinct s.ksusenum,o.kglnaown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o.kglnaobj,o.kglobty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from 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suse s,x$kglob o,x$kgldp d,x$kgllk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where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l.kgllkuse=s.add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l.kgllkhdl=d.kglhdad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and  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o.kglhdadr=d.kglrfhd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772400" y="5867280"/>
            <a:ext cx="1295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2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8080" y="41904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Book Antiqua"/>
                <a:ea typeface="Book Antiqua"/>
              </a:rPr>
              <a:t>V$ Views Underlying Quer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23880"/>
            <a:ext cx="8001000" cy="48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ample Look at V$ Views (cont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Union V$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View: v$fixed_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select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kqftanam, kqftaobj, 'TABLE'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from 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qf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union al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select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kqfvinam, kqfviobj, 'VIEW'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from 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qfv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union al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select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kqfdtnam, kqfdtobj, 'TABLE'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from 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qfd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772400" y="5867280"/>
            <a:ext cx="1295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2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8080" y="41904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Book Antiqua"/>
                <a:ea typeface="Book Antiqua"/>
              </a:rPr>
              <a:t>V$ Views Underlying Quer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23880"/>
            <a:ext cx="8001000" cy="58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ample Look at V$ Views (cont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Decode V$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View: v$libraryc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select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decode(indx,0,'SQL AREA'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1,'TABLE/PROCEDURE',2,'BODY'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3,'TRIGGER',4,'INDEX',5,'CLUSTER'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6,'OBJECT',7,'PIPE','?'),kglstget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kglstght, decode(kglstget,0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1,kglstght/kglstget),kglstpi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kglstpht,decode(kglstpin,0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1,kglstpht/kglstpin),kglstrld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kglstinv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from 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gl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wher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dx&lt;8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772400" y="5867280"/>
            <a:ext cx="1295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2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91440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Book Antiqua"/>
                <a:ea typeface="Book Antiqua"/>
              </a:rPr>
              <a:t>X$ Tables Not Referenc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28600" y="1676520"/>
            <a:ext cx="8001000" cy="61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bh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2gt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2gte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cbcb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cbfwait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cbrbh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ckfm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cvf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dnc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dnst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dxh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dx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ghlu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glau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glbody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glclu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glindex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gllc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glpn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gl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gltr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gltrigger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glx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ksb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mmdp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qdpg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qfco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qrp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qrsd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smcx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smlru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sm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sqdn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sqst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sucf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sup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suru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ttv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vii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v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vit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xfpcd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xfpcm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xfpc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xfpsd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xfpsm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zdo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zs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l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le_stat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message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tr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tra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772400" y="5867280"/>
            <a:ext cx="1295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2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8080" y="419040"/>
            <a:ext cx="777240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Book Antiqua"/>
                <a:ea typeface="Book Antiqua"/>
              </a:rPr>
              <a:t>Subset of Cross Reference:</a:t>
            </a:r>
            <a:br>
              <a:rPr sz="4800"/>
            </a:br>
            <a:r>
              <a:rPr b="1" i="1" lang="en-US" sz="4800" spc="-1" strike="noStrike">
                <a:solidFill>
                  <a:srgbClr val="fafd00"/>
                </a:solidFill>
                <a:latin typeface="Book Antiqua"/>
                <a:ea typeface="Book Antiqua"/>
              </a:rPr>
              <a:t>V$ Views to X$ Tab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81080"/>
            <a:ext cx="7772400" cy="51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Book Antiqua"/>
                <a:ea typeface="Book Antiqua"/>
              </a:rPr>
              <a:t>V$ Views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ook Antiqua"/>
                <a:ea typeface="Book Antiqua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ook Antiqua"/>
                <a:ea typeface="Book Antiqua"/>
              </a:rPr>
              <a:t>X$ Tables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ook Antiqua"/>
                <a:ea typeface="Book Antiqua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ook Antiqua"/>
                <a:ea typeface="Book Antiqua"/>
              </a:rPr>
              <a:t>V$ Views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ook Antiqua"/>
                <a:ea typeface="Book Antiqua"/>
              </a:rPr>
              <a:t>X$ T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acces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gldp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datafil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x$kcc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glob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x$kccf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sus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dbfil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x$kccf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archiv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ccdi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dblink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x$ugan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ccl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db_object_cache x$kglo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backup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cvfhonl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dispatcher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x$kmmd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bgproces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sbdd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enabledpriv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x$kzsp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sbdp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filestat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x$kcc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circuit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mcvc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x$kcf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compatibility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ckty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fixed_tabl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x$kqfd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compatseg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ckc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x$kqfta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controlfil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cccf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instanc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x$ksuxsi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databas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ccdi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latch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x$ksl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772400" y="5867280"/>
            <a:ext cx="1295280" cy="836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886200" y="1828800"/>
            <a:ext cx="0" cy="4952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2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1440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Book Antiqua"/>
                <a:ea typeface="Book Antiqua"/>
              </a:rPr>
              <a:t>Presentation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905120"/>
            <a:ext cx="8305920" cy="48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troduction to V$ Views and X$ 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 Bas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 Views and X$ Tables Creation/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erver Manager/SQLDBA Moni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 Views and Categ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 Queries and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 Tables Closer L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 Views Underlying Que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772400" y="5867280"/>
            <a:ext cx="1295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2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8080" y="419040"/>
            <a:ext cx="777240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Book Antiqua"/>
                <a:ea typeface="Book Antiqua"/>
              </a:rPr>
              <a:t>Subset of Cross Reference:</a:t>
            </a:r>
            <a:br>
              <a:rPr sz="4800"/>
            </a:br>
            <a:r>
              <a:rPr b="1" i="1" lang="en-US" sz="4800" spc="-1" strike="noStrike">
                <a:solidFill>
                  <a:srgbClr val="fafd00"/>
                </a:solidFill>
                <a:latin typeface="Book Antiqua"/>
                <a:ea typeface="Book Antiqua"/>
              </a:rPr>
              <a:t>X$ Tables to V$ View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981080"/>
            <a:ext cx="777240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Book Antiqua"/>
                <a:ea typeface="Book Antiqua"/>
              </a:rPr>
              <a:t>X$ Tables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ook Antiqua"/>
                <a:ea typeface="Book Antiqua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ook Antiqua"/>
                <a:ea typeface="Book Antiqua"/>
              </a:rPr>
              <a:t>V$ Views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ook Antiqua"/>
                <a:ea typeface="Book Antiqua"/>
              </a:rPr>
              <a:t>X$ Tabl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ook Antiqua"/>
                <a:ea typeface="Book Antiqua"/>
              </a:rPr>
              <a:t>V$ Vie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cbwait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waitstat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x$kcclh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v$logh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cccf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controlfil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v$log_hi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ccdi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archiv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v$recovery_lo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databas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x$kccrt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v$lo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ccf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datafil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v$th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filestat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x$kcfio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v$filest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ccfn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datafil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x$kckc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v$compatse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dbfil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x$kckty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v$compati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logfil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x$kcvfhmrr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v$recovery_lo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ccl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archiv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v$recover_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log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x$kcvfhonl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v$back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recovery_log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x$kdnssc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v$_lock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772400" y="5867280"/>
            <a:ext cx="1295280" cy="836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191120" y="1828800"/>
            <a:ext cx="0" cy="4952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2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914400" y="419040"/>
            <a:ext cx="80773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Book Antiqua"/>
                <a:ea typeface="Book Antiqua"/>
              </a:rPr>
              <a:t>Storage of X$ Tab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3520" y="1752480"/>
            <a:ext cx="8001000" cy="47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ome X$ Tables Store Records Based on an Init.ora Par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es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sessions=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suse Stores 200 Rec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Database Block Buf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db_block_buffers=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bh Stores 1000 Rec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Large Systems, Slow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772400" y="5867280"/>
            <a:ext cx="1295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2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914400" y="419040"/>
            <a:ext cx="80773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Book Antiqua"/>
                <a:ea typeface="Book Antiqua"/>
              </a:rPr>
              <a:t>Detail X$ Table Infor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752480"/>
            <a:ext cx="800100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ample Queries of X$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DB_BLOCK_BUFFERS 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select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decode(state,0,’Free’,1,’Read and Modified’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2,’Read and Not Modified’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3,’Currently Being Read’,’Other’),count(*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from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b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group by decode(state,0,’Free’,1,’Read and Modified’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2,’Read and Not Modified’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3,’Currently Being Read’,’Other’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e                      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--------------------- ----------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Free                         1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Read and Modified            4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772400" y="5867280"/>
            <a:ext cx="1295280" cy="836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219320" y="5334120"/>
            <a:ext cx="5638680" cy="14479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2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914400" y="419040"/>
            <a:ext cx="80773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Book Antiqua"/>
                <a:ea typeface="Book Antiqua"/>
              </a:rPr>
              <a:t>Detail X$ Table Infor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52280" y="1523880"/>
            <a:ext cx="8686800" cy="53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ample Queries of X$ Information (cont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All Init.ora Parameters (Undocument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select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dx+1,ksppinm,ksppity,ksppivl,ksppid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from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ksppi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8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arameter                      Value           Defaul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8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------------------------------ --------------- 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8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essions                       100             FA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8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timed_statistics               FALSE           TR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8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hared_pool_size               3500000         TR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8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_trace_buffers_per_process     0               TR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8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_trace_block_size              2048            TR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8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_trace_archive_start           FALSE           TR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8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b_block_buffers               550             FA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ful for Reco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aution: Be Careful,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772400" y="5943600"/>
            <a:ext cx="1295280" cy="836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33520" y="3335400"/>
            <a:ext cx="8305920" cy="25336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2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91440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Book Antiqua"/>
                <a:ea typeface="Book Antiqua"/>
              </a:rPr>
              <a:t>Future Impa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3520" y="175248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 Views and X$ Tables Enhan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New 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New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Version 7.2 Information Obta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Definite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Performance Impr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Addition of Indexes on X$ 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Additional Need to Select Direct from X$ 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772400" y="5867280"/>
            <a:ext cx="1295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2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91440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Book Antiqua"/>
                <a:ea typeface="Book Antiqua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520" y="1447920"/>
            <a:ext cx="762012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tent of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Education and Review of V$ 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Outline and Education of X$ 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Provide a Better Understanding of Oracle Inte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Allow Audience to Take the Next St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tilize the Views and Tables to Their Fullest Ex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emember: It’s Another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772400" y="5867280"/>
            <a:ext cx="1295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2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91440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Book Antiqua"/>
                <a:ea typeface="Book Antiqua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6320" y="1600200"/>
            <a:ext cx="7620120" cy="58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Book Antiqua"/>
              </a:rPr>
              <a:t>Oracle7 Server: SQL Language Reference Manual, Oracle Corpo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Book Antiqua"/>
              </a:rPr>
              <a:t>Oracle7 Server: Application Developer's Guide, Oracle Corpo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Book Antiqua"/>
              </a:rPr>
              <a:t>Get the Most out of Your Money: Utilize the v$  Tables, IOUG 1994, Joseph Trezz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Book Antiqua"/>
              </a:rPr>
              <a:t>Monitoring Oracle Database: The Challenge Continues, IOUG 1994, Eyal Aronoff &amp; Noorali Sonawall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Book Antiqua"/>
              </a:rPr>
              <a:t>A special thanks to Eyal Aronoff from R*Tech Systems, Inc. for his ass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Book Antiqua"/>
              </a:rPr>
              <a:t>A special thanks to all TUSC Staff for their technical ass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Book Antiqua"/>
              </a:rPr>
              <a:t>If you find any problems in this document, please report them to us in writing.  Neither TUSC or the author warrant that this document is error-fre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772400" y="5867280"/>
            <a:ext cx="1295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2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1440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Book Antiqua"/>
                <a:ea typeface="Book Antiqua"/>
              </a:rPr>
              <a:t>Presentation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676520"/>
            <a:ext cx="7620120" cy="53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 Tables Not Referen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ubset of Cross Reference: V$ Views to X$ 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ubset of Cross Reference: X$ Tables to V$ 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torage of X$ 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etail X$ Table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uture Version Imp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772400" y="5867280"/>
            <a:ext cx="1295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2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14400" y="419040"/>
            <a:ext cx="777240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Book Antiqua"/>
                <a:ea typeface="Book Antiqua"/>
              </a:rPr>
              <a:t>Introduction to V$ Views and X$ Tab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14400" y="1905120"/>
            <a:ext cx="78487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Oracle Over the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troduction V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Enhancement V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ata Diction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Architectur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 &amp;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chema and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age: Oracle and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tored in the Database/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772400" y="5867280"/>
            <a:ext cx="1295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2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14400" y="419040"/>
            <a:ext cx="777240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Book Antiqua"/>
                <a:ea typeface="Book Antiqua"/>
              </a:rPr>
              <a:t>Introduction to V$ Views and X$ Tab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14400" y="1905120"/>
            <a:ext cx="7848720" cy="45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 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Extension of Data Dictio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Real-Tim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Access Granted by 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 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Underlying V$ 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Access and Description Cryp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Key to X$ Tables is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772400" y="5867280"/>
            <a:ext cx="1295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2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91440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Book Antiqua"/>
                <a:ea typeface="Book Antiqua"/>
              </a:rPr>
              <a:t>V$ Bas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14400" y="1905120"/>
            <a:ext cx="7620120" cy="51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nother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upplement to Data Diction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ntent Knowledge (Real-Ti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Database Tu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Performance Tu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Reco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Resource Cont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Ident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nderstand Database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772400" y="5867280"/>
            <a:ext cx="1295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2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91440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Book Antiqua"/>
                <a:ea typeface="Book Antiqua"/>
              </a:rPr>
              <a:t>V$ Bas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6765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tored in the S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pdated by Ora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X$ Tables Underl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772400" y="5867280"/>
            <a:ext cx="1295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2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914400" y="723960"/>
            <a:ext cx="777240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Book Antiqua"/>
                <a:ea typeface="Book Antiqua"/>
              </a:rPr>
              <a:t>V$ Views and X$ Tables Creation/Ac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14400" y="198108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reated Upon Start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urrent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ince Database Start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V$ Views 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atalog.sq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ore Readable than X$ 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772400" y="5867280"/>
            <a:ext cx="1295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USC</dc:creator>
  <dc:description/>
  <dc:language>en-US</dc:language>
  <cp:lastModifiedBy>TUSC</cp:lastModifiedBy>
  <cp:revision>0</cp:revision>
  <dc:subject/>
  <dc:title>SQR3 Workbench  the Universal Production Report Writer</dc:title>
</cp:coreProperties>
</file>